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hyperlink" Target="https://edtechfuture.org/?page_id=9653" TargetMode="External"/><Relationship Id="rId1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De Leon Technology plan.ppt_media/presentation-1.mov" descr=""/>
          <p:cNvPicPr/>
          <p:nvPr/>
        </p:nvPicPr>
        <p:blipFill>
          <a:blip r:embed="rId2"/>
          <a:stretch/>
        </p:blipFill>
        <p:spPr>
          <a:xfrm flipH="1">
            <a:off x="0" y="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echnology Plans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ardware, Software, Train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oundations based on National Technology Plan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17080" y="2654280"/>
            <a:ext cx="10464840" cy="632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sed on Hinchey (2006) Analysis of 2005 National Technology Pla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udents need use of technology outside of schoo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udents need access to the interne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ore technology=better achieve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ech-savvy” administrators and teachers will contribute to student learning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upport “on-line” and “virtual” school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US Department of Education Plan (foTechnolog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Learning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Personalized resources, coherent instructional activities, engage disconnected learners, flexible use, acquire expertise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Assessment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Embedded assessments, data use support, software for automated scoring, inductive assessment tools, online assessments of 21st century skills and technology literacy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Teaching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Online teacher learning and staff development, decision support software and tools, and software for parents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halkboard"/>
              </a:rPr>
              <a:t>student management systems, digital textbooks</a:t>
            </a: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oftware for Technology use in classroom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Pixie 2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Intel software for educator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Designing effective project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Frame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Brain X Digital Tutoring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Google docs &amp; spreadsheets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Teachers First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Universal Designs for Learning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Hyperstudio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699480" indent="-3290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More complete listing can be found at the Ed.gov websit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"/>
                <a:hlinkClick r:id="rId12"/>
              </a:rPr>
              <a:t>https://edtechfuture.org/?page_id=9653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 advTm="2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District Plan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igh yield Technology Bond to provide funding for 1:1 student to laptop ratio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mplement teacher training and staff developm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tudents get new laptop second yea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year integrate software learning and infrastructure basis for paper-less, virtual classroom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 advTm="6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Referenc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Hinchey, P. (2006, August). An analysis of the 2005 National technology plan: Better for business than for children. Education Policy Research Unit. Retrieved from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halkboard"/>
              </a:rPr>
              <a:t>http://epipolicy.org/files/Brief-Hinchey.pdf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 on February 13, 2010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SRI International (2009, December 7). National educational technology plan. US Department of education. Retrieved from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halkboard"/>
              </a:rPr>
              <a:t>http://edtechfuture.org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 on February 13, 2010.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